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DBF9-AE63-4FA0-82EC-839CD6BF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5F53-DE9D-4D73-BF4F-1CA80C91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3956-52EE-43F3-8353-2EB09A66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066F-C6D4-451A-B684-63F6E207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0BC1-DFDA-4F0C-93DF-B80066AC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ABD1-1E5B-42AD-9C74-7688923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33F7-C233-424B-8923-3B5B5373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F77D-8D03-4268-B906-D61728BC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71BD-735E-40B2-81F1-BA574822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69CF-E150-4193-84AB-C504F8AE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FA64-73B7-48FB-A570-88B28417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AB6B-1DBB-4F75-82FB-59508497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21F0-F3D9-455E-AABC-99729478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4C96-815B-4AEC-B2B8-4637F4B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62A7-C749-452C-A743-8E8130B1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4E1A-6F55-4889-AE88-3F022701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0AE8-D0A0-48C4-95B2-9462F63C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1DB3-ECA2-4A6C-92DF-15EA7677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A993-D5AC-43AA-A5B6-14C7D546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2012-1293-4ADC-B4D6-C7B1D08B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B09F-06FD-4859-A45F-DBE484C2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6393-E840-4256-858F-618BAD8F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6A02-8E7A-4DCA-B5EC-282214E1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180B-86DA-4E96-880B-9F310CE8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7B7E-483F-47CA-A2A3-32492D5BD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8BA3-0253-440B-9AEE-3DA3F7202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F7A7-E8A7-4A4F-B5A2-569753D597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9000" y="4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Homophonic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884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Homophonic worksheet will allow you to run a frequency breakdown of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60480" y="3070080"/>
            <a:ext cx="5456160" cy="358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3000" y="2506680"/>
            <a:ext cx="1149480" cy="646200"/>
          </a:xfrm>
          <a:prstGeom prst="wedgeRoundRectCallout">
            <a:avLst>
              <a:gd name="adj1" fmla="val -46134"/>
              <a:gd name="adj2" fmla="val 6842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F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B0A2-192C-419C-9C4F-D80D9343EE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Possib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5680" y="2120760"/>
            <a:ext cx="829476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Possible Word window allows you to enter a known word and CAP will search for possible number matches based on thre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number will not match two or more differ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letter will not match two different numbers in the sam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different letters match two different numbers in the same range, the difference between the numbers will match the difference between the two letters in their alphabet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7399-8B34-4F75-B8FB-24BF717128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ed matches discovered in the Possible Word window can be entered into the workshee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plaintext will be displayed and can be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EB63B-10D2-4C22-A296-59F0C6BCB9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7T00:07:55Z</dcterms:modified>
  <cp:revision>74</cp:revision>
  <dc:subject/>
  <dc:title>CAP Cryptographic Analysis Program</dc:title>
</cp:coreProperties>
</file>